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51.png" ContentType="image/png"/>
  <Override PartName="/ppt/media/image41.png" ContentType="image/png"/>
  <Override PartName="/ppt/media/image9.png" ContentType="image/png"/>
  <Override PartName="/ppt/media/image46.gif" ContentType="image/gif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4.png" ContentType="image/png"/>
  <Override PartName="/ppt/media/image45.gif" ContentType="image/gi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CEF-ADD8-4D2B-A935-BC950643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E89-881A-4191-92D9-F77915BE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7F8-209B-416A-B666-207268ED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2D9-F217-4D44-96D1-1A5429CF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D44-2E3C-4492-AB33-CA20D685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645-2DB1-479D-97E9-EC3FB56D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163-8659-4939-8BFA-DDEB625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433-E1FB-480D-813D-E8CC3BB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A33-8500-4821-81D9-D83011F4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3C4-AA32-4EAD-ADE9-48EF39C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41B-D556-4834-8187-1EBE291C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2B4-334A-4624-82BC-EFE8E4D3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5C78-67DE-4513-8265-DE430AD7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put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cture is worth a thousan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let’s not forget about s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 is the number of pixels on 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it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by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number of pix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number of pix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resolutions range fr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 by 480 (low end),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600 by 1,200 (high 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ideo RAM Requir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pixel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 × 480 = 307,20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600 × 1,200 = 1,920,00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RAM required equals total number of pixels times the number of bits/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 × 480 × 8 = 2,457,600 bits = 307,200 bytes = 300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600 × 1,200 × 24 = 46,080,000 bits = 5,760,000 bytes = 5,625 KB = 5.49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1 KB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24 bytes, 1 MB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048,576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ideo RAM (KB) By Resolu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3568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pect Rati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 is the ratio of the width to height of a displa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640 by 480 display, the aspect ratio is 640:480, or 4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dth is greater than the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r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 is greater than the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05720" y="2971800"/>
            <a:ext cx="187632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504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t Pit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pitch is a measur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agonal 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phosphor dots (pixels) on a displa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principal characteristics that determines the quality of a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wer the number, the crisper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ed in mm (milli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values range from 0.15 mm to 0.3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 pitch, as specified, i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articular image, dot pitch can be calculated 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t Pitch Imag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dot pitch of an image displayed on a 15” monitor with a resolution of 640 by 48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20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 pit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5 / 800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0187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01875 / 0.039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48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72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Z = (6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1 mm = 0.039 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4495680"/>
            <a:ext cx="2324160" cy="1562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43800" y="56386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t Pitch Illustrate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2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lou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ls for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specifications f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specifications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tu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righ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gether, hue and saturation are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romin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hey represent the 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e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tinction between col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red, orange, yellow, gree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ion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ity of a col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the amount of grey in proportion to the h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aturation </a:t>
            </a:r>
            <a:r>
              <a:rPr b="0" lang="en-US" sz="1600" spc="-1" strike="noStrike">
                <a:solidFill>
                  <a:srgbClr val="000000"/>
                </a:solidFill>
                <a:latin typeface="Wingdings-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in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saturation </a:t>
            </a:r>
            <a:r>
              <a:rPr b="0" lang="en-US" sz="1600" spc="-1" strike="noStrike">
                <a:solidFill>
                  <a:srgbClr val="000000"/>
                </a:solidFill>
                <a:latin typeface="Wingdings-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ed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 saturation </a:t>
            </a:r>
            <a:r>
              <a:rPr b="0" lang="en-US" sz="1600" spc="-1" strike="noStrike">
                <a:solidFill>
                  <a:srgbClr val="000000"/>
                </a:solidFill>
                <a:latin typeface="Wingdings-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ness is also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umin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GB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56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39920" y="1295280"/>
            <a:ext cx="892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New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GB Model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ordinate Syst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lour Choose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for colour usually employ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oos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k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our pic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ur selected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-defined pal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B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GB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54864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ava’s JColorChooser (1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568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2720" y="167652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1676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mo,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Menu2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ava’s JColorChooser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181480" cy="487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7600" y="1447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1447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mo,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Menu2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ava’s JColorChooser (3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500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4960" y="1523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1523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mo,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Menu2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crosoft Off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41560" cy="396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841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tscape Navigator and Microsoft I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int Shop Pr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3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raw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“J” components are the building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graphical user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lower level, Java provides a set of drawing primitiv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67160" y="1447920"/>
            <a:ext cx="39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PaintPanel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19400" y="2286000"/>
            <a:ext cx="2905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13716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PaintPanel2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PaintPanel3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48769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ice Coordinat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natural units for the output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 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04720" y="152388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Password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505320" cy="1841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2971800" cy="2673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7180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hown earl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720" y="13716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MouseInk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343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66240" y="1523880"/>
            <a:ext cx="51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MouseUnistrok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76520" y="2320920"/>
            <a:ext cx="5790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12952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Imag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Image2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886200" cy="290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42900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6360" y="137160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ImageSizePositio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55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and S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nt Famil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hort line extending from and at an angle to the upper and lower strokes of a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f fonts facilitate human perception in distinguishing among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s se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r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paced or fixed-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haracter occupies the same amount of horizontal space (cf. variable p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rifs Illustrate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0199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ns Serifs Illustrate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paced Illustrate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478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ysical Coordinat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ed pa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hes,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drawing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et,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45448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2514600"/>
            <a:ext cx="0" cy="455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98108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274320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nt Sty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4963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nt Siz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 size is measured i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 is the smallest typographical unit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oint = 1 / 72 inch (i.e., 72 points per i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79866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nt Spac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3348000"/>
            <a:ext cx="701028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7086600" cy="1866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1460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ntMetr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62840" y="144792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FontMetric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70866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46400" y="13716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List3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dability of Tex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case vs lower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WRITTEN IN BLOCK CAPITALS take longer to read than those written in lower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n important word written in CAPITALS is quickly perceived provided it is surrounded by words in lower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f vs sans se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inted text, serif fonts are easier to run one’s eyes along and take in the written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n-screen text, serif fonts generally produce less well than sans serif fonts due to poorer resolution of the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52560" y="1447920"/>
            <a:ext cx="41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ComboBox2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181480" cy="3973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86600" y="457200"/>
            <a:ext cx="1752480" cy="121932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e File Forma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, many file formats for storing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clu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, jpg, tiff, b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i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c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f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th a hard ‘g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in 1987 by CompuServe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popular format for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to 256 colors (8-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less data compress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es best for images with lots of repetition; e.g., flat col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lour in the image’s pallete (usually the ‘background’) is treated as 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63388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ompressed data exactly the same as origi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p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pg = jpeg = joint photographic expert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nounc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y-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uses 24-bi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y data compression (up to 95% reduction, but with loss of image quality proportional to amount of comp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ava’s Coordinate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200400"/>
            <a:ext cx="1828800" cy="91440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2004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411480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714640" y="4190760"/>
            <a:ext cx="685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514600"/>
            <a:ext cx="685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40080" y="2209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6120" y="487692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idth – 1, height -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856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90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if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f = tiff = tagged image fil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different compression schemes (lossy and loss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any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and white, color, or grey sh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p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t-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pixel map to hold line-by-line rast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are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g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rtable network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s an improvement on 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partial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mapp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less data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(1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3124080"/>
            <a:ext cx="3505320" cy="243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spaceship-1" descr=""/>
          <p:cNvPicPr/>
          <p:nvPr/>
        </p:nvPicPr>
        <p:blipFill>
          <a:blip r:embed="rId1"/>
          <a:stretch/>
        </p:blipFill>
        <p:spPr>
          <a:xfrm>
            <a:off x="4863960" y="3429000"/>
            <a:ext cx="622440" cy="1676520"/>
          </a:xfrm>
          <a:prstGeom prst="rect">
            <a:avLst/>
          </a:prstGeom>
          <a:ln w="0">
            <a:noFill/>
          </a:ln>
        </p:spPr>
      </p:pic>
      <p:pic>
        <p:nvPicPr>
          <p:cNvPr id="212" name="spaceship-1" descr=""/>
          <p:cNvPicPr/>
          <p:nvPr/>
        </p:nvPicPr>
        <p:blipFill>
          <a:blip r:embed="rId2"/>
          <a:stretch/>
        </p:blipFill>
        <p:spPr>
          <a:xfrm>
            <a:off x="6692760" y="3429000"/>
            <a:ext cx="622440" cy="1676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14400" y="3141720"/>
            <a:ext cx="2514600" cy="2041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139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139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139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139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139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13976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42900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68880" y="2590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97680" y="2590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2071800"/>
            <a:ext cx="19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g,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g, tif, 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09680" y="3429000"/>
            <a:ext cx="457200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057400"/>
            <a:ext cx="2362320" cy="114300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 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flag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960480" cy="650880"/>
          </a:xfrm>
          <a:prstGeom prst="rect">
            <a:avLst/>
          </a:prstGeom>
          <a:ln w="0">
            <a:noFill/>
          </a:ln>
        </p:spPr>
      </p:pic>
      <p:pic>
        <p:nvPicPr>
          <p:cNvPr id="223" name="hckyanim" descr=""/>
          <p:cNvPicPr/>
          <p:nvPr/>
        </p:nvPicPr>
        <p:blipFill>
          <a:blip r:embed="rId3"/>
          <a:stretch/>
        </p:blipFill>
        <p:spPr>
          <a:xfrm>
            <a:off x="5105520" y="3581280"/>
            <a:ext cx="777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gra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1905120" cy="5638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1904760" cy="5638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486400" y="35053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3200400"/>
            <a:ext cx="1219320" cy="609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" y="182880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Timer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 “displays” important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435400" y="3349800"/>
            <a:ext cx="4270320" cy="1603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87280" y="2666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Sound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und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5040" y="121932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Sound2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 flipH="1" rot="10800000">
            <a:off x="1219320" y="1675800"/>
            <a:ext cx="6705360" cy="2307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18040" y="411480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SoundVolum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381480" y="4572000"/>
            <a:ext cx="2381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74284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xt Topic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7240" y="1447920"/>
            <a:ext cx="44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3300"/>
                </a:solidFill>
                <a:latin typeface="CourierNewPS-BoldMT"/>
              </a:rPr>
              <a:t>DemoMouseEvent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1219320"/>
            <a:ext cx="1676160" cy="990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00600" cy="34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419720"/>
            <a:ext cx="1295280" cy="12952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inter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52480" y="502920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ix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xel is a “picture el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point in a graphic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aphics display is divided into thousands (or millions) of pixels arranged in rows an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xels are so close together they appear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bits used to represent each pixel determines how many colours or shades of grey can be re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B&amp;W (black and white) display, each pixel is represented by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8 bits per pixel, a monitor can display 256 shades of grey or 256 colours (Note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n image presented on a display i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osed of pixe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286000" cy="2165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9880" y="1828800"/>
            <a:ext cx="1508400" cy="2133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48520" y="1828800"/>
            <a:ext cx="153180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809880" y="4495680"/>
            <a:ext cx="13924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172200" y="4495680"/>
            <a:ext cx="160020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467000" y="4419720"/>
            <a:ext cx="1415880" cy="2057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001000" y="4800600"/>
            <a:ext cx="914400" cy="4586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69160" y="5108400"/>
            <a:ext cx="228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59092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51460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95288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495288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95288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play Siz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pecified in “inch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ited is the diagonal dimens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 the viewable area of the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a 15”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4495680"/>
            <a:ext cx="2590560" cy="182880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724280" y="4495320"/>
            <a:ext cx="114300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276360" y="5486400"/>
            <a:ext cx="106668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0:32:55Z</dcterms:created>
  <dc:creator>Aleks Oniszczak</dc:creator>
  <dc:description/>
  <dc:language>en-US</dc:language>
  <cp:lastModifiedBy> </cp:lastModifiedBy>
  <dcterms:modified xsi:type="dcterms:W3CDTF">2009-12-07T19:20:29Z</dcterms:modified>
  <cp:revision>79</cp:revision>
  <dc:subject/>
  <dc:title>Output Model</dc:title>
</cp:coreProperties>
</file>